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103A-9405-45F4-AFE0-A6186098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DAC9-F90E-44E2-B579-90F4E9A5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E47-DBB5-4468-B06A-4CF4AD50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D19-E567-4BD0-A8F4-C8E12855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90E-391B-4445-A7CF-319DF836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A9D4-0831-4417-BAEA-E836325C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DBF-5470-4E7A-9B5D-2B24BCC2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26D8-0F88-4B39-AC70-663B69CA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868-8092-445E-9503-55A04F33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72F-95C6-4489-987D-D1E76C6C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E127-973D-4C9F-9370-EB655139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286B-46B2-4E5B-AC49-653F5530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44DB-40E8-474B-928F-F3D75DF5B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 age effect the way you tas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Yaharia Bates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Problem*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get older will your taste buds get older to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Hypotheses*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your age will effect your taste buds. I think that as you get older your taste buds get older also. So when you are older you can’t taste as well as you used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Material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mon juice,pop tart,cracker,and wal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art for all my resul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eople of different ag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na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Procedure*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ll my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my t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5 seconds to make a c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all the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my conclus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Result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447920"/>
          <a:ext cx="9144000" cy="541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7920"/>
                    <a:ext cx="9144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Conclusions*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was right because older people did react differently to the tastes than the younger.I noticed that it took the older people longer to make a choice than the young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know that your taste buds replace themselves every two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USD376</cp:lastModifiedBy>
  <cp:lastPrinted>2009-04-22T19:24:48Z</cp:lastPrinted>
  <dcterms:modified xsi:type="dcterms:W3CDTF">2010-05-07T20:43:0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